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3CD-B2DF-47B7-B9D2-28D24610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D0C2-DD3C-40FC-81E1-B4D41920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9E96-25B2-4848-B849-71E8B19C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12E3-83A3-4206-96CF-47B3EFEC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443A-E439-45F1-99C1-BEB001F7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1D5D-C23B-4E94-A6EE-37C35000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9144-0002-4613-A4F1-E8D85F42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3FD0-3D29-48BC-9B04-67F73BC3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B838-AF07-469D-8B75-C445B85F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370B-2B55-421F-A018-E7C5BD39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8178-FB55-47CE-AC1F-F89E4E08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505E-225A-486D-90A0-5FB50066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EE6B-A52A-4798-903C-E0A504EE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5763-6261-42CF-80B5-F1DB141F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0436-9681-473B-89FD-3F4BAFE7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3BEE-A2D7-49BB-A71F-BCA50023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2C36-DCE0-4DF6-92E5-B6334105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0EE6-5F6C-4A46-A568-63383E55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F01-36DC-4E5D-B1AF-4E3A4249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6ADA-FEED-4305-95FB-8524752D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A58C-A41B-415E-9C7E-E1318BE7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0EA6-C7E9-4F0C-A298-C77E48A9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B85A-E3D6-4F3F-B983-F2D727E8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55B4-ABD8-4A82-8EA4-97606090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AE1B-E822-49FA-9C76-5C042CCF688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F0AF-FB1B-4BD2-A6FA-6A1CED2A196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What’s For Dinner?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ma Bha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ela Heck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nal Pa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anda Plot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ina Shkolnik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dinnerPic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4200480" cy="133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6CD1-08EA-47DE-9B4E-0AA0A01793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ep 2: Input Preferen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410680" cy="449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D9C3-1AF2-46CD-8653-38136ED61D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ep 3:  Solv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111B-7BD9-4A2F-B7D6-838E6C002F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ep 4:  Outpu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0120" y="1295280"/>
            <a:ext cx="794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9444-F50F-496E-9D3E-E593C25D61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alculation of Scor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core is calculated for each user based on the number of preferences m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ing higher priority items adds more than meeting lower priority ite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meeting a high priority item subtracts more than not meeting a lower priority it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7D11-CCF7-4F35-B53C-4814B8B50E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ct Match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ints are added for exact matches 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od ty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getarian Option Avail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ints are subtracted if these items do not mat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7925-4882-48ED-825C-876C101535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qual or Better Match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ints are added for meeting or exceeding preferences 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od qu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qu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écor qu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cks from sub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ance from preferred neighborh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ints are subtracted for not at least meeting these i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9103-158D-4433-9F3A-62AB3748FD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Best Restaura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ary Solver is used to maximize the overall score of the entire grou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aints are used to ensure that a minimum score is met for each member of the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bjective function penalizes more for not meeting the top three choices than for the 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388620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A7C-D7B8-4AF4-A9D0-5431BBE03A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tential Enhanc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putting second and third best choices of restaur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forming a sensitivity analysis to show tradeoffs between the top three cho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t it online so it is more easily acce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87B4-FB82-4DB5-942A-EEF4651699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stion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5715000" cy="21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1EBB-3357-408E-91BA-D2114E8B31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blem Illustr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isine Ty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gat Rating on Food, Service and Déc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ance from Sub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ons for Vegetarian F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ighborho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219320"/>
            <a:ext cx="8229600" cy="6426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Determining optimal restaurant in downtown Manhattan for a group with varied 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25F-18D8-4A78-BB95-C3EEC69447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ata Identification Metric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od 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écor 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cks from Sub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getarian Op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one 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34340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17EC-8CDD-429D-94FF-ADA9BB9DF7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ood, Service and Déc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219320"/>
            <a:ext cx="8229600" cy="6426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translated the Food, Service and Décor numbers into Zagat descri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3880" y="2209680"/>
          <a:ext cx="6477120" cy="3768840"/>
        </p:xfrm>
        <a:graphic>
          <a:graphicData uri="http://schemas.openxmlformats.org/drawingml/2006/table">
            <a:tbl>
              <a:tblPr/>
              <a:tblGrid>
                <a:gridCol w="3238560"/>
                <a:gridCol w="3238560"/>
              </a:tblGrid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re Less Tha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Goo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ll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ordinar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4A19-28AC-46CE-AA0C-429F414F67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staurant Pri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371600"/>
            <a:ext cx="8229600" cy="36828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translated the prices into Zagat descri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23880" y="2286000"/>
          <a:ext cx="6477120" cy="3139920"/>
        </p:xfrm>
        <a:graphic>
          <a:graphicData uri="http://schemas.openxmlformats.org/drawingml/2006/table">
            <a:tbl>
              <a:tblPr/>
              <a:tblGrid>
                <a:gridCol w="3238560"/>
                <a:gridCol w="323856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expensi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$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6 - $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nsi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1 - $5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Expensi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1+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A9F0-A139-4D7F-897E-9A34D831EB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raveling Distan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371600"/>
            <a:ext cx="8229600" cy="6426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lculated the average traveling distance between pairs of neighbor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14400" y="2209680"/>
          <a:ext cx="7238880" cy="3657600"/>
        </p:xfrm>
        <a:graphic>
          <a:graphicData uri="http://schemas.openxmlformats.org/drawingml/2006/table">
            <a:tbl>
              <a:tblPr/>
              <a:tblGrid>
                <a:gridCol w="1752480"/>
                <a:gridCol w="1866960"/>
                <a:gridCol w="1812960"/>
                <a:gridCol w="1806480"/>
              </a:tblGrid>
              <a:tr h="365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ighborh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els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ast Vill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eenwic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els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ast Vill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eenwi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wer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li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atpac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ion Squ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DA98-EE4F-42BC-97AE-20E00C3694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dividual Preferen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del takes into account each of the following preferences for everyone in the grou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e of Cuis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od, Service and Décor Lev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c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 of Blocks from Sub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05720" y="3048120"/>
            <a:ext cx="1847880" cy="255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25B9-B108-438D-BA0E-6BF30CE63F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8120" y="3657600"/>
            <a:ext cx="5410080" cy="1523880"/>
          </a:xfrm>
          <a:prstGeom prst="rect">
            <a:avLst/>
          </a:prstGeom>
          <a:gradFill rotWithShape="0">
            <a:gsLst>
              <a:gs pos="0">
                <a:srgbClr val="50581a"/>
              </a:gs>
              <a:gs pos="100000">
                <a:srgbClr val="afbf39"/>
              </a:gs>
            </a:gsLst>
            <a:lin ang="5400000"/>
          </a:gra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1752480"/>
            <a:ext cx="5410080" cy="1524240"/>
          </a:xfrm>
          <a:prstGeom prst="rect">
            <a:avLst/>
          </a:prstGeom>
          <a:gradFill rotWithShape="0">
            <a:gsLst>
              <a:gs pos="0">
                <a:srgbClr val="50581a"/>
              </a:gs>
              <a:gs pos="100000">
                <a:srgbClr val="afbf39"/>
              </a:gs>
            </a:gsLst>
            <a:lin ang="5400000"/>
          </a:gra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del: User Inpu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828800"/>
            <a:ext cx="2286000" cy="1219320"/>
          </a:xfrm>
          <a:prstGeom prst="rightArrowCallout">
            <a:avLst>
              <a:gd name="adj1" fmla="val 25002"/>
              <a:gd name="adj2" fmla="val 25000"/>
              <a:gd name="adj3" fmla="val 31247"/>
              <a:gd name="adj4" fmla="val 66667"/>
            </a:avLst>
          </a:prstGeom>
          <a:gradFill rotWithShape="0">
            <a:gsLst>
              <a:gs pos="0">
                <a:srgbClr val="3b812f"/>
              </a:gs>
              <a:gs pos="50000">
                <a:srgbClr val="1b3b15"/>
              </a:gs>
              <a:gs pos="100000">
                <a:srgbClr val="3b81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133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809880"/>
            <a:ext cx="2286000" cy="1219320"/>
          </a:xfrm>
          <a:prstGeom prst="rightArrowCallout">
            <a:avLst>
              <a:gd name="adj1" fmla="val 25002"/>
              <a:gd name="adj2" fmla="val 25000"/>
              <a:gd name="adj3" fmla="val 31247"/>
              <a:gd name="adj4" fmla="val 66667"/>
            </a:avLst>
          </a:prstGeom>
          <a:gradFill rotWithShape="0">
            <a:gsLst>
              <a:gs pos="0">
                <a:srgbClr val="3b812f"/>
              </a:gs>
              <a:gs pos="50000">
                <a:srgbClr val="1b3b15"/>
              </a:gs>
              <a:gs pos="100000">
                <a:srgbClr val="3b81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4114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1751760"/>
            <a:ext cx="541008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person in the group ranks the items in order of importance to them, from 1 to 8 with 1 being most important and 8 being least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3657600"/>
            <a:ext cx="54100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person in the group enters information about their 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18C5-791A-42AB-9DEB-ECE9C8DE46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ep 1:  Input Ranking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1532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FDC0-28BA-46AE-BD1E-B69988A034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03:28:15Z</dcterms:created>
  <dc:creator>Saima Bhatti</dc:creator>
  <dc:description/>
  <dc:language>en-US</dc:language>
  <cp:lastModifiedBy>Saima Bhatti</cp:lastModifiedBy>
  <dcterms:modified xsi:type="dcterms:W3CDTF">2005-05-02T21:00:51Z</dcterms:modified>
  <cp:revision>7</cp:revision>
  <dc:subject/>
  <dc:title>Slide 1</dc:title>
</cp:coreProperties>
</file>